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E93-6ACE-4D65-AAEB-19DEC50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531-BC95-46F6-9A94-17F2D63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0D1-5827-4485-8BF0-B50AAD38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462-5CCA-40B2-9431-73911936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9B4-3311-424E-AFEB-698182A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60-FD75-4784-B743-4C6F162B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282-7E32-4730-BEDB-8926558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72B-5EB7-49A4-B705-26B5746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0D1-C6E3-48A4-B7EE-B3073C6B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9EE-2D09-4F93-B108-16FAEC0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D9D-A604-433A-9596-83AFEDC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BF0-46FB-4904-AF12-1C91A24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6E0-1B77-44D6-A2E8-C376F6A4C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9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0400" y="3202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АНАЛИЗА КЛИНИЧКЕ ОДЛУ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КЛИНИЧКА ОДЛУ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1442880" y="2131920"/>
          <a:ext cx="6258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131920"/>
                    <a:ext cx="6258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Поступак доношења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 крајевима грана (код петоуглова) треба прво ставити оцену коју пацијент придаје таквом исходу: највећа оцена је 1, а најмања 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дан би било савршено здравље, а 0 см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постоји одређена вероватноћа, коју треба знати из клиничког искуства или, боље, из клиничке лит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затим треба помножити вероватноћу са оценом пациј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ијене бројке треба сабрати за све гране које излазе из једног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Ако постоји више нивоа грањ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поступак се понавља на сваком нив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Када доносимо одлуку на месту где се налази квад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онда се руководимо вредностима добијеним за сваки круг који потиче из тог квадр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и резултати анализе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кључене све важне клиничке стратегије и исх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вероватноће добро утврђ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које би пацијент дао за исходе добро утврђе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испитана осетљивост урађене анализе?(тј. да ли је испитан утицај клинички смислених варијација у вероватноћама и оценама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анализе клиничке одлук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постоји клинички значајна разлика између терапијских или дијагностичких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одређени избор терапије или дијагностике и даље бити бољи, ако дође до значајних промена у вероватноћама или оценама исх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анализе клиничке одлуке могу применити на нашем пацијенту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ероватноће важе за нашег пацијен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исхода вашег пацијента и оне публиковане у анализи клиничке одлуке сличн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8:35Z</dcterms:modified>
  <cp:revision>59</cp:revision>
  <dc:subject/>
  <dc:title>Slide 1</dc:title>
</cp:coreProperties>
</file>